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EBC-46C3-45EF-B6E6-1E96E5CA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565-5802-4005-9FCC-5425B4F9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869-8120-478D-87DB-C7A07FE5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CC0-39F6-4991-9DF2-55EBECA5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4D0-BFEE-4ECD-A338-C081741F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259-832B-4E27-A436-7545A02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1ED-454F-4009-91D8-F8C53EAF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0FB-6A55-43F3-BA96-21B4C1F4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113-B670-4C22-83EC-7FCE89F5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E19-E6B2-4F84-B89F-B9621A8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D46-4606-4B5E-ADDE-D07B207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F8C-DCBF-425E-AF1F-05B2DAF6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DB5B-074D-4A93-BDDB-F59E29FEAB2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187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844640"/>
            <a:ext cx="66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Metodologia G.O.P.P.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ruolo del facilitatore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setting d'aula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6520" y="1527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2746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3813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76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4040" y="3889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44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70000" y="282240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79840" y="3584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61120" y="3507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8912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7020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89120" y="4803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03520" y="4651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37440" y="4575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79840" y="2746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337440" y="2593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55800" y="2593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2289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679840" y="2593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87880" y="7650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9417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gli obiettivi da perseguire a fronte dei problemi individu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gli obiettivi (albero degli obiettiv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83040" y="1743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88160" y="2962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8160" y="4029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41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30560" y="4105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09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06520" y="3038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6360" y="3800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97640" y="372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2564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0672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5640" y="5019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0040" y="4867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573960" y="4791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16360" y="2962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73960" y="2809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2809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92520" y="250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6360" y="280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2960" y="98100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51577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zione degli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icazione degli ambiti o aree di Obiettivi affini a seconda delle competenze istituzionali e/o tecnico-Professionali necessarie per raggiunger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lta degli ambiti di inter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a tutti gli ambiti individuati gli attori effettuano una scelta di quelli su cui intervenire in bas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rg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rse umane e finanziarie dispon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teresse strate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ttibil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QUADR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liv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TTIVI GENER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 SOCIALI O ECONOMICI DI LUNGO PERIODO AI QUALI CONTRIBUISCE I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E’ IMPORTANTE PER LA SOCIET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O CHE OTTENGONO I BENEFICIARI DAI SERVIZI FORNITI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I BENEFICIARI NE HANNO BISOG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CHE I BENEFICIARI RICEVERANNO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ORNISC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O’ CHE VIENE REALIZZATO NEL PROGETTO PER FORNIRE I SERVIZI PREV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 CONCRETAMENT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06a"/>
                </a:solidFill>
                <a:latin typeface="Arial"/>
              </a:rPr>
              <a:t>DEFINIZIONE DEGLI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73360"/>
            <a:ext cx="7775280" cy="4062600"/>
          </a:xfrm>
          <a:prstGeom prst="rect">
            <a:avLst/>
          </a:prstGeom>
          <a:solidFill>
            <a:srgbClr val="a0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CATO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’ CIO’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 PUO’ OSSERVARE NELLA REAL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QUANDO SI RAGGIUNGE UN RISUL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 UN OBIETTIVO O SI REALIZZA UNA 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SSO E’ COSTITUI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A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VALOR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ARGET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EMPO DI OSSER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D ESEMPIO DIMINUZIONE DEL 10%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LO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RIFERIMENTO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DELLA DISPERSION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RIABIL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GLI ALLIEVI DEL BIENNIO SUPERIOR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ARG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GROUP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NTRO DUE ANNI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EMPO DI OSSERVAZION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ruolo del facilit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3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facilitatore  è  un consulente “di proces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 ascoltare,permette a tutti di esprimers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uta il gruppo di lavor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animatore-moderatore esterno che è neutrale rispetto al tema in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 impone il suo punto di vista e non prosp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uzioni che devono essere individuate da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557360"/>
            <a:ext cx="71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85264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14972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I STRUMENTI DI LAVORO DEL FACILITAT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7002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4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5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7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54200">
            <a:off x="7884720" y="228744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04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7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1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2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3680" y="35830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2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1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13680" y="25923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13680" y="28972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13680" y="32781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79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420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88400">
            <a:off x="7923240" y="43066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3680" y="39639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04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61000" y="228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5200" y="1906560"/>
            <a:ext cx="1522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016200">
            <a:off x="4494240" y="1944720"/>
            <a:ext cx="76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8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9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1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79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2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22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04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1351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0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960" y="44974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72608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7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1840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99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8200" y="47260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990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56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5920" y="536724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ETE LI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227480" y="4725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0440" y="155736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VAGNA A FOGLI MO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32040" y="167796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77000" y="518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6520" y="52149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32040" y="480204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66120" y="308124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ANCO PARTECIP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56280" y="236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59640" y="2637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59640" y="29415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3322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59640" y="36273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59640" y="4008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 METODOLOGIA  G.O.P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42064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etodologia G.O.P.P.(Goal Orien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lanning),progettazione orientata agli obiettivi,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todo innova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realizzare incontri 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in cui i diversi attori-chiave ed 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un progetto intervengono in manie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endo una procedura di lavoro strutturat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 un  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1628640"/>
            <a:ext cx="8348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TERIALI DI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GLI (1X1,5 MT)DI CARTA DA PACCHI MAR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GI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BI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PENNARELLI NERI A TRATTO G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ENNARELLI ROSSI E B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ROTOLO DI SC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STICK DI C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60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1989000"/>
            <a:ext cx="2743200" cy="1524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NDE 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MPAT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4005360"/>
            <a:ext cx="312408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O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TON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89000"/>
            <a:ext cx="297180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RIVERE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DI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33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524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95560" y="2246400"/>
            <a:ext cx="697860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RE UN CLIMA DI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RE NEUTRALI RISPETTO AL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IUTARE IL GRUPP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RANTIRE UN SENSO DI PARITA’ A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ERE CONCRETEZZA N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ZARE UNA LOGICA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E TRASPARENTI GLI 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STIRE I CONFLITTI IN MODO NEU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1360" y="158436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IN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907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L’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0" y="2662200"/>
            <a:ext cx="8229600" cy="307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FACILITATORE AIUTA IL GRUPPO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CARE UN PROBLEMA COME CONDI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E vissuta da  chi la es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GGETTIVA cioè basato su situazioni de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A ATTUALE e non come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989000"/>
            <a:ext cx="7010640" cy="435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CHIU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RISPOST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APERTE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GLI ATTORI-CHI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TI ASPETTI DI OTTENERE DA QUESTO INCO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ITIENI CHE L’OBIETTIVO PROPOSTO SODDISFI LE 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ASPETT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I PROBLEMI(in caso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ormulazioni non corret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ACCADE NELLA REALTA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QUALE PROBLEMA SI RISOLVE CON…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ERCHE’ QUESTO E’ UN PROBLE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IN CHE MODO IL BENEFICIARIO PUO’ AVERE UN VANTAGG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UOI FARE UN ESEMPIO CONCRE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NON E’ IN GRADO DI FARE  X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3360"/>
            <a:ext cx="779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LE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98480" y="2373480"/>
            <a:ext cx="74836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COLTARE  ATTENTAMENTE QUANTO STA DICENDO UN PARTECIP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OSTRARE IN MODO NON VERBALE ATTENZIONE E INTERESSE A QUANTO D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SARE FRASI DEL TIPO  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 NON SBAGLIO TU DICI CH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……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PETENDO E RIASSUMENDO IL PUNTO DI VISTA DI CHI INTERVIENE USANDO LE SUE STESSE PAROLE-CHI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CONFERMA A CHI HA PARLATO DELLA CORRETTEZZA DI SINTESI F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AL GRUPPO SE E’ CHIARO QUANTO SINTET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5600" y="69228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12640" y="1865160"/>
            <a:ext cx="8077320" cy="448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TECNICA DEL CATCH THE BALL E QUELL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ROTING SONO FONDAMENTALI N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DUZIONE DI UN GRUPPO DA PART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CATCH THE B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L’AFFER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MENTO IN CUI IL GRUPPO ARRIVA A 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UNA DISCUSSIONE ED ESPRIMERE UN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PARRO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 RIPETERE IL DIS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UN PARTECIPANTE CON LE DOMANDE APERT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DERE CONFERMA DELL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1600" y="33336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125360"/>
            <a:ext cx="86868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TCH THE BALL E PAR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2880" y="628560"/>
            <a:ext cx="7792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ELLA VIS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920" y="2068560"/>
            <a:ext cx="7566120" cy="41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RAPPRESENTAZIONE SU FOGLI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LTE INDICAZIONI PERMETTE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IONE DI INSIEME ED UNA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COMPRENDERE IL LE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 CAUSA-EFFETTO TRA I VAR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AVERE IL CONTRIBUT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UTTO I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FOCALIZZARE GLI INTER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 ELEMENTI SIN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60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96760" y="54936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79480" y="17240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3040" y="253044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1520" y="260676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3040" y="2987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2040" y="253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39600" y="2612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3040" y="3444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4960" y="306396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040" y="39783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8320" y="3521160"/>
            <a:ext cx="27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O DI AVANZ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44355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6400" y="40543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040" y="48164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520" y="451152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5197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560" y="489276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OSTACOLI 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9280" y="5661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2360" y="527364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080" y="57308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6760" y="62064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17953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040" y="260208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267804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30592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72040" y="260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39600" y="268452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3040" y="35164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4960" y="3135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4049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3040" y="4506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82360" y="35924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3040" y="48880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6520" y="458316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3040" y="52689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78760" y="496404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ARTO TRA ATTIVITA’ PROGRAMMATA E REALIZZ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9280" y="5732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5360" y="5372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080" y="58039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93880" y="4125960"/>
            <a:ext cx="64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MOTIVI DI NON RAGGIUNGIMENTO DE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ogettazione per 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a agli obiet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 non all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rt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ioè definita sia con l’apporto degli attori-chiave che c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o dei beneficiari final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odo che il progetto finale risul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vi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rispondente ai problem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 benefici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opo dell’apprendimento labora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ruire  e/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ziare le risorse della sin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 in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verso metodologi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nsentano ai giovani di riconoscere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 risorse 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rui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e orientative trasver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13372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21300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 di ricerca -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biettivo del MI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ttivazi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processi di ricerca at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o le scuole secondarie di 2° grado che hanno mostrato attenzione verso l’innovazione e volontà di sperimentare e mettersi in “discussi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involg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ori-chi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nell’individuazione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nella ricerca delle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biente positivo e costruttivo in cui risulti prioritario                    il principio della condivis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99200" y="592452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FINALE DI UN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’ QUELLO DI DEFINIRE UNA MATRIC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(QUADRO LOG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UI  L’IDEA PROGETTUALE E’ SVILUPP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UTTI GLI ELEMENTI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I GENERALI, SCOPO, RISULTATI, ATTIVITA’, RISCHI, PREREQUI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DI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zione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tema  è l’argomento su cui avviene la proget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conda dell’ampiezza del tema varia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 di attori-chiave da coinvolger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e risorse da impie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 soggetti portatori di interessi qualificati che possono contribuire all’intervento proget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n modo trasparente gli interessi e le aspettative di ciascun attore-chi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l contributo che ciascun attore- chiave puo’ apportare a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i problemi relativi al  tema (situazioni negative attuali ed oggettive e possibili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i problemi (albero dei problem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02:36Z</dcterms:created>
  <dc:creator>Standard</dc:creator>
  <dc:description/>
  <dc:language>en-US</dc:language>
  <cp:lastModifiedBy>enzo d'onofrio</cp:lastModifiedBy>
  <dcterms:modified xsi:type="dcterms:W3CDTF">2006-01-23T11:58:19Z</dcterms:modified>
  <cp:revision>14</cp:revision>
  <dc:subject/>
  <dc:title>LA  METODOLOGIA  G.O.P.P.</dc:title>
</cp:coreProperties>
</file>